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571D-B2C3-41A9-B023-669BA4BF1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F32A-3850-43A7-A028-DFFFC1330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7AA6-0613-4FAD-BA82-6EA3D8486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D1EA-971E-47EE-A963-134196705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A942-095B-41A5-996A-5A30CE33B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E276-1B0D-475A-A786-04B06D179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463B-9C0D-4A8F-8553-35EADED15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1B13-7725-4FE1-AC62-AAE6F802C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76E0-8720-440F-90D7-53585EFB1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2DF4-BBCF-4DC6-89CF-AAC478EDE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BC5D-ABAC-4EB3-9D46-94881680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A88D-5812-45E0-B35E-8E59F6093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0904A-FCED-4249-AC05-E8C3CCFF13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4" descr=""/>
          <p:cNvPicPr/>
          <p:nvPr/>
        </p:nvPicPr>
        <p:blipFill>
          <a:blip r:embed="rId1"/>
          <a:stretch/>
        </p:blipFill>
        <p:spPr>
          <a:xfrm>
            <a:off x="79200" y="2938320"/>
            <a:ext cx="9210960" cy="79848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5" descr=""/>
          <p:cNvPicPr/>
          <p:nvPr/>
        </p:nvPicPr>
        <p:blipFill>
          <a:blip r:embed="rId2"/>
          <a:stretch/>
        </p:blipFill>
        <p:spPr>
          <a:xfrm>
            <a:off x="669960" y="1182600"/>
            <a:ext cx="705960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0T05:56:45Z</dcterms:created>
  <dc:creator>HISD</dc:creator>
  <dc:description/>
  <dc:language>en-US</dc:language>
  <cp:lastModifiedBy>HISD</cp:lastModifiedBy>
  <dcterms:modified xsi:type="dcterms:W3CDTF">2012-11-20T06:00:24Z</dcterms:modified>
  <cp:revision>1</cp:revision>
  <dc:subject/>
  <dc:title>Slide 1</dc:title>
</cp:coreProperties>
</file>